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F934-1CE1-4EF4-A6E0-DA4FFCDCF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1E19-FA02-4F8F-AF2B-AEBDF7AD7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4F4-A3C4-42B4-882F-450FC19A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878-17E4-4CB1-AF46-FED8FF0D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42F-3692-4210-B56E-6DF28E47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6B2-98BB-4498-AE02-3A396083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2D5-FADE-489C-8942-7D04FBF2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867-E9F2-47CE-BEA3-8B5A81CE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2D0-78BD-4C6A-8225-56975B15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7BA-99BE-4F58-A03D-66FC8F77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B98-6936-4BC0-8F8B-77CF569B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F0A-CB50-47DE-9BC0-C4941103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C42-C3E9-4E67-BF16-94189CEA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59E-EAE8-41BF-AC10-8F81A42D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DEEA-822D-4DA4-9D30-77138FB41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Your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4:07:59Z</dcterms:modified>
  <cp:revision>2</cp:revision>
  <dc:subject/>
  <dc:title>Type Your Title Here</dc:title>
</cp:coreProperties>
</file>