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D2D4-F271-4E32-83AD-AAFB74B0F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ADF-1987-4B45-BD51-735804A88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Template for Symbols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39F-9BD6-4DD4-8EDF-731447BA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825-FDED-4733-9621-466E2344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C3C-414B-4165-8C0B-BCD00054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FE0-EE8D-4C2A-AD70-F818AD8E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768-2B9C-4CAB-9E22-7091D4B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9C6-9DC2-4783-ACCF-9E1BFA5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BF7-F557-442B-8197-E01889D4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8E0-62F0-4F5E-8A0F-CDF92815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908-F591-4ABD-80C9-35CC951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557-B89D-4B31-B9C1-490F427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AB1-31D8-4F75-A6B5-74F96CB7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E96-271B-45C3-B0E4-3BA85F5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2855-AB77-47A9-AF11-53B7DAEEB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Your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the Title of Your Symbol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9548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A Pictur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520" y="1596960"/>
            <a:ext cx="833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20:32Z</dcterms:created>
  <dc:creator>laquita</dc:creator>
  <dc:description/>
  <dc:language>en-US</dc:language>
  <cp:lastModifiedBy>laquita</cp:lastModifiedBy>
  <dcterms:modified xsi:type="dcterms:W3CDTF">2009-06-12T14:07:59Z</dcterms:modified>
  <cp:revision>2</cp:revision>
  <dc:subject/>
  <dc:title>Type Your Title Here</dc:title>
</cp:coreProperties>
</file>