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7594-2604-4E51-9C70-F44D29246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D097-48DC-4FDE-AB6D-A4DE1D67C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B06-2C93-49EA-8B2A-BBCA60B9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566-9327-4D88-9347-3AB8E01F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C7D-AA2B-4BF2-8B7F-A171B5A7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D15-F5D6-4550-A949-DE6EA401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12F-2E90-48E1-9C25-D4530F80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D78-6676-4039-ABB6-13EB5920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EE1-0362-4815-9303-9F37FD4D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46B-76D6-46F3-98E9-961FDE5E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955-C872-4E53-B388-83C173FE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B22-BFDA-4E11-998E-611EFB99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979-7720-4688-B6AC-67BF039D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BE2-A5CE-4DDD-9A7F-96FFB0CA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5841-181B-4BE1-9CDA-AAD051E1F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Your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the Title of Your Symbol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9548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A Pictur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371520" y="1596960"/>
            <a:ext cx="833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20:32Z</dcterms:created>
  <dc:creator>laquita</dc:creator>
  <dc:description/>
  <dc:language>en-US</dc:language>
  <cp:lastModifiedBy>laquita</cp:lastModifiedBy>
  <dcterms:modified xsi:type="dcterms:W3CDTF">2009-06-12T14:07:59Z</dcterms:modified>
  <cp:revision>2</cp:revision>
  <dc:subject/>
  <dc:title>Type Your Title Here</dc:title>
</cp:coreProperties>
</file>