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point Template for Symbols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64E2-8209-47C7-9BBC-E2C333C604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17DE-C456-46F4-83BA-0AA00417D9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point Template for Symbols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65E0-1FB7-46D6-8DB3-9F438CD8F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9B79-6E23-406F-85FA-40206797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DF57-544F-4674-8EF9-23BDFDE67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DB03-FF9B-492C-BA21-504B6A2DF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769D-E603-42DD-9261-E88AD8EF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B328-E9DE-4626-A1FE-86B52346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F123-66A6-4B17-B3F0-4CF232C2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62E7-5637-4E84-B599-ECEB28C5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FAFF-FAEF-43EB-BC0B-71530CB9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9A8D-6FA9-4555-9F9A-2F946F66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BBA6-48C9-4B93-BA4C-BC56EBAC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2019-6E2A-4161-9ED8-5A190C0B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9CE8-5747-4F82-BB58-2E6BBD4D4A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Your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the Title of Your Symbol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2895480" y="28954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 A Pictur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4" descr=""/>
          <p:cNvPicPr/>
          <p:nvPr/>
        </p:nvPicPr>
        <p:blipFill>
          <a:blip r:embed="rId1"/>
          <a:stretch/>
        </p:blipFill>
        <p:spPr>
          <a:xfrm>
            <a:off x="371520" y="1596960"/>
            <a:ext cx="8334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2T12:20:32Z</dcterms:created>
  <dc:creator>laquita</dc:creator>
  <dc:description/>
  <dc:language>en-US</dc:language>
  <cp:lastModifiedBy>laquita</cp:lastModifiedBy>
  <dcterms:modified xsi:type="dcterms:W3CDTF">2009-06-12T14:07:59Z</dcterms:modified>
  <cp:revision>2</cp:revision>
  <dc:subject/>
  <dc:title>Type Your Title Here</dc:title>
</cp:coreProperties>
</file>