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C44E-B373-4AD1-90AB-877BB25C4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DD2C-D86B-4120-B2A7-66E1297FD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ECD-A062-40B3-9CD0-7FFE9946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604-14DE-4780-A269-A83041A2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4E9-F932-464C-A031-210A56A4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519-63BF-4D88-ACF2-1CB9945F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D64-E1EF-4E7E-885F-E8AE672F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7E0-FEA2-4E88-9891-511B02BB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A19-1E85-4753-B5BD-82C06062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AD3-15DC-4FB4-B970-682298C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82F-18C0-4701-BB7E-7135EF1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667-60D8-47C9-AC3C-87C4924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926-5F25-42B2-9B0B-AD9EF36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F3E-9511-459C-B657-171E4DE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53C7-5C17-4E9C-BE70-791B3F07C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Your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4:07:59Z</dcterms:modified>
  <cp:revision>2</cp:revision>
  <dc:subject/>
  <dc:title>Type Your Title Here</dc:title>
</cp:coreProperties>
</file>