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E98B-5441-4B1B-9261-D0D508BAC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0085-1D3D-4A6A-8322-6F25C87CB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74B-BD73-4E55-B96C-A861F37D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DD3-066F-483B-A0CC-901F6569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83F-1524-49DE-AE8C-CF950AF4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5A6-B9C9-407E-B35B-ACD4A842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B94-6E84-49EF-B5E7-6676FDA7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85F-9348-4813-930A-E0CAC8FA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7BC-F6DA-4A4E-B603-7DBCFEF4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E97-6DB9-4AB3-8D51-70989A95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786-516A-4E31-ADE3-364A631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787-0ACF-4FAE-BBD4-93F4EC36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D6E-DD5C-4655-8ECD-0502138E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8A0-5F39-4796-A738-9153CE30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66C7-E54A-4719-B8A8-A42F41B1B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2:31:12Z</dcterms:modified>
  <cp:revision>3</cp:revision>
  <dc:subject/>
  <dc:title>Type Your Title Here</dc:title>
</cp:coreProperties>
</file>