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1098-258F-4E54-A6B3-CFC62D268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D72-3C85-4E85-AEEF-5AD09CAFF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369-9BDA-48EE-BA55-DBDE0A00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7F7-E47E-4665-A494-4DAE024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DAA-A5D1-4378-8C58-FF504BD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960-FFDA-4F4B-A880-7C566519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5D3-BE84-48FB-AD68-66FD2B9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129-B024-4311-ACCE-B62511A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FAE-5F80-411F-B147-865A9277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0FD-384F-4838-AAEC-BFFF6B79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DE1-4D3E-46B5-B1A9-85DA3F6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03A-3B30-48F6-876A-441289D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F92-0853-445C-96B0-019E871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41C-D0B6-4860-B001-FE8A59C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F41-19D6-486B-8500-71237CCEA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2:31:12Z</dcterms:modified>
  <cp:revision>3</cp:revision>
  <dc:subject/>
  <dc:title>Type Your Title Here</dc:title>
</cp:coreProperties>
</file>