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point Template for Symbols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4D6F-2D59-42C2-9A32-7F46C751DA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91AE-9F62-49B3-8796-80DC717BB5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point Template for Symbols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C736-6636-430E-A82A-8257C99FC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3DFD-4212-4288-B0C1-C0DA28E1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7235-D271-4CFE-BF0F-60F8E2E5F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D171-4431-4142-8811-372D42B5C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69D1-D875-4A34-A4C8-B9F620C7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92E0-F028-459D-ACAB-2641858C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3C12-86B0-4D4A-BE12-A940B0DF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5770-779A-401B-AC21-2C6B8086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AE63-E37E-47CB-AEF2-58E347F1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ECF0-AFE2-40A4-A76C-5A132DAF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2F97-2FAA-4C0B-81FA-A5C83387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4D36-FC4D-434C-BE57-BA88BCBD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30A8-F7B5-4ECA-8926-E63EC7E580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the Title of Your Symbol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2895480" y="28954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 A Pictur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4" descr=""/>
          <p:cNvPicPr/>
          <p:nvPr/>
        </p:nvPicPr>
        <p:blipFill>
          <a:blip r:embed="rId1"/>
          <a:stretch/>
        </p:blipFill>
        <p:spPr>
          <a:xfrm>
            <a:off x="371520" y="1596960"/>
            <a:ext cx="8334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2T12:20:32Z</dcterms:created>
  <dc:creator>laquita</dc:creator>
  <dc:description/>
  <dc:language>en-US</dc:language>
  <cp:lastModifiedBy>laquita</cp:lastModifiedBy>
  <dcterms:modified xsi:type="dcterms:W3CDTF">2009-06-12T12:31:12Z</dcterms:modified>
  <cp:revision>3</cp:revision>
  <dc:subject/>
  <dc:title>Type Your Title Here</dc:title>
</cp:coreProperties>
</file>