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38B3-1C89-44A5-8822-61798BA81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9991-2CDC-4A26-AB82-B4510BF48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772-F998-4322-8C77-B8EB08BF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169-13A0-4352-8DEE-20D15FDC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5CD-FE50-4D13-84D6-8D7BF361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390-1DAE-4229-B98E-15F8EB0F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F64-5C14-4FE9-989D-36E7FFBB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AF0-3872-40E6-9A37-0EE50527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980-6F21-41D5-94F9-F339FE74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350-C268-4C46-B66B-73E96B5B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08F-F08C-49BE-A32C-4EF85113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56E-7856-4B09-B2C6-83F0282F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BF7-4678-4828-80B3-213C2BAD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1F0-EC5F-4A34-8816-875C2573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EC44-2DA7-452D-9404-841F5BD0C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the Title of Your Symbol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9548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A Pictur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20:32Z</dcterms:created>
  <dc:creator>laquita</dc:creator>
  <dc:description/>
  <dc:language>en-US</dc:language>
  <cp:lastModifiedBy>laquita</cp:lastModifiedBy>
  <dcterms:modified xsi:type="dcterms:W3CDTF">2009-06-12T12:31:12Z</dcterms:modified>
  <cp:revision>3</cp:revision>
  <dc:subject/>
  <dc:title>Type Your Title Here</dc:title>
</cp:coreProperties>
</file>